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BF52-17C3-433B-81C2-996E829D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ED6-02B6-4FBC-914C-AF957B9E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84B-5064-43F0-A99A-FA978AB4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17D-CDB0-484A-B548-85D33B3A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713-F0B1-48D6-8854-BDF232A7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122-9AA6-415A-B98A-62C59B4B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25A-E19E-43D4-9179-BADCE554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BB1B-3357-4971-A7F6-5AD9DAC6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852-4B17-45B4-A1CD-95A81004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9899-569A-4D70-85BA-3DA940FA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2F36-E8BB-4A4D-9E69-514CC244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76D-E41B-4607-B28E-06B6BCB1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CA5C-F8C4-414A-8CAA-D820114F4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734" t="45933" r="81814" b="42555"/>
          <a:stretch/>
        </p:blipFill>
        <p:spPr>
          <a:xfrm>
            <a:off x="2743200" y="68580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1667" t="61427" r="82489" b="27727"/>
          <a:stretch/>
        </p:blipFill>
        <p:spPr>
          <a:xfrm>
            <a:off x="4114800" y="32004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0200" y="6094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91120" y="15238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inces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23623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th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397656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grad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53341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ale about creating kingdoms that work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6507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Barbara Kennedy for LBS 850 Emerging Technology for Libra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945040" cy="3860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14400" y="4724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rend in libraries is automation, going global, and cooperating with other libraries. That way we all get more services, broader collection access at less cost,” said R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28037" r="10080" b="0"/>
          <a:stretch/>
        </p:blipFill>
        <p:spPr>
          <a:xfrm>
            <a:off x="914400" y="461880"/>
            <a:ext cx="7310520" cy="43880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762120" y="53341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our system was designed, it was meant for building to building use. How ridiculous is that now? Have you noticed how happy the system makes Arnold latel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10968"/>
          <a:stretch/>
        </p:blipFill>
        <p:spPr>
          <a:xfrm>
            <a:off x="2438280" y="228600"/>
            <a:ext cx="4259520" cy="5257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52480" y="5562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ly, something had to be done, she thought. “I need fairy godmother action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-1153" t="9892" r="872" b="0"/>
          <a:stretch/>
        </p:blipFill>
        <p:spPr>
          <a:xfrm>
            <a:off x="685800" y="228600"/>
            <a:ext cx="4394160" cy="6248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715000" y="533520"/>
            <a:ext cx="28954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since you asked, we could use a little speed too. People have little patience for slow respon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need a more comprehensive search capability for our coll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users don’t care what we have as long as it works well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638680" y="533520"/>
            <a:ext cx="2892600" cy="5410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38080" y="685800"/>
            <a:ext cx="39625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vvy librarian princess knew Rex made sen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hift in cataloging was toward a central system for the distri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trum, she discovered, for the past 8 years had huge sales decli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also learned large numbers of users were switching from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4762440" cy="4076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90720" y="51814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realization made the tech savvy princess librarian feel not very savvy.  She needed advice from her fairy godmo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5943600" cy="5262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1012680"/>
            <a:ext cx="18288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her fairy godmother had just been laid off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didn’t expect a godfather, but I’m desperate,” she sa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’ll do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2563" t="0" r="37180" b="13123"/>
          <a:stretch/>
        </p:blipFill>
        <p:spPr>
          <a:xfrm>
            <a:off x="4876920" y="762120"/>
            <a:ext cx="3809880" cy="5486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480" y="380880"/>
            <a:ext cx="40388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sten, I didn’t expect you either. I’ve had a lot of experience making things go my way. So, here’s my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trum was great but it’s over. The new power players come from Follett Software. Follett has been trying to phase out this underpowered, underachieving turkey for years--right after they bought the company. But school systems like to hang on to things even when they’re dead. Why is that?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2563" t="0" r="37180" b="13123"/>
          <a:stretch/>
        </p:blipFill>
        <p:spPr>
          <a:xfrm>
            <a:off x="4876920" y="762120"/>
            <a:ext cx="3809880" cy="5486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9480" y="60948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ew toy, which would be perfect for your size school system, is Destiny. It’s designed to meet the demand in a system that wants (and this should be you) to centraliz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3047" t="0" r="0" b="0"/>
          <a:stretch/>
        </p:blipFill>
        <p:spPr>
          <a:xfrm>
            <a:off x="380880" y="1047600"/>
            <a:ext cx="4851360" cy="3753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486400" y="533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What Destiny h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1295280"/>
            <a:ext cx="297180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asier book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ferent access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fore nothing was internal and you had to toggle between pages leaving room for error. That’s now go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her schools in district can be part of system and you now have access to their collectio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83337" t="31059" r="1517" b="57999"/>
          <a:stretch/>
        </p:blipFill>
        <p:spPr>
          <a:xfrm>
            <a:off x="1676520" y="768240"/>
            <a:ext cx="2209680" cy="2117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86200" y="227016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ce there was 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941560"/>
            <a:ext cx="69343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 savvy librarian princess who worked for the schools in the kingdom of Have-A-Lo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3047" t="0" r="0" b="0"/>
          <a:stretch/>
        </p:blipFill>
        <p:spPr>
          <a:xfrm>
            <a:off x="380880" y="1047600"/>
            <a:ext cx="4851360" cy="375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86400" y="6397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What Destiny h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1447920"/>
            <a:ext cx="2971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hensive reports for inventory, circulation sta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MARC records you need from Bergen County Library like you do now, does not have to be done by han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arch options are much better, although they’re working on improving th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3047" t="0" r="0" b="0"/>
          <a:stretch/>
        </p:blipFill>
        <p:spPr>
          <a:xfrm>
            <a:off x="380880" y="1047600"/>
            <a:ext cx="4851360" cy="3753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486400" y="533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ol Featu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1295280"/>
            <a:ext cx="29718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sh lists you can cre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ually smart appeara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ommendations for patr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alog options: MARC view, reviews, title detai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re flexibility to import and export tit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 transaction summaries available in the office s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943" t="0" r="39810" b="11172"/>
          <a:stretch/>
        </p:blipFill>
        <p:spPr>
          <a:xfrm>
            <a:off x="685800" y="533520"/>
            <a:ext cx="423396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57800" y="7621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, is that enough or do you need more convinc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95360" y="457200"/>
            <a:ext cx="6453360" cy="4343400"/>
          </a:xfrm>
          <a:prstGeom prst="rect">
            <a:avLst/>
          </a:prstGeom>
          <a:ln w="9360">
            <a:solidFill>
              <a:srgbClr val="b52623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685800" y="4952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y, your catalog goals should be offering all the library stuff through a single interface. You’ll get self-sufficient users! This web-based management system has a more powerful search, greater cataloging and greater accessi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10666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questions? I’m late for my next vis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544" r="80006" b="86380"/>
          <a:stretch/>
        </p:blipFill>
        <p:spPr>
          <a:xfrm>
            <a:off x="1676520" y="914400"/>
            <a:ext cx="1915920" cy="1828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657600" y="2209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d with a solution found,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2819520"/>
            <a:ext cx="71625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 savvy princess librarian was able to: offer better and quicker services while staying s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2623"/>
                </a:solidFill>
                <a:latin typeface="Times New Roman"/>
              </a:rPr>
              <a:t>P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more of what she really should be do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738360"/>
            <a:ext cx="8458200" cy="392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90920" y="5257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ing her stud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066680" y="5181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81673" t="45431" r="0" b="42007"/>
          <a:stretch/>
        </p:blipFill>
        <p:spPr>
          <a:xfrm>
            <a:off x="1676520" y="48006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81673" t="45431" r="0" b="42007"/>
          <a:stretch/>
        </p:blipFill>
        <p:spPr>
          <a:xfrm>
            <a:off x="2819520" y="12193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81673" t="1565" r="333" b="86101"/>
          <a:stretch/>
        </p:blipFill>
        <p:spPr>
          <a:xfrm>
            <a:off x="3886200" y="30481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343400" y="19810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10080" y="37339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038480" y="19051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many years, she made sure her libr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667" t="16038" r="81673" b="72852"/>
          <a:stretch/>
        </p:blipFill>
        <p:spPr>
          <a:xfrm>
            <a:off x="1676520" y="671400"/>
            <a:ext cx="2286000" cy="2224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84360" y="2651040"/>
            <a:ext cx="649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3078000"/>
            <a:ext cx="6629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re the best at every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the best boo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the best resourc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9880" y="12193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84360" y="2651040"/>
            <a:ext cx="649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236232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81673" t="45431" r="0" b="42007"/>
          <a:stretch/>
        </p:blipFill>
        <p:spPr>
          <a:xfrm>
            <a:off x="1828800" y="8380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62520" y="243828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y even had the best OPAC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733920"/>
            <a:ext cx="655308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Online Public Access Catalo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ade them the envy of many. School libraries in other kingdoms wanted to be just like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2689200" cy="5029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0" y="914400"/>
            <a:ext cx="38862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course, this made the librarian princess very happ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nebago’s Spectrum catalog software was the right choice,” she sai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re all set!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6346" t="0" r="6346" b="0"/>
          <a:stretch/>
        </p:blipFill>
        <p:spPr>
          <a:xfrm>
            <a:off x="609480" y="152280"/>
            <a:ext cx="419112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57400" y="38862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0ca7"/>
                </a:solidFill>
                <a:latin typeface="Times New Roman"/>
              </a:rPr>
              <a:t>Have-A-Lot Libr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38098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0ca7"/>
                </a:solidFill>
                <a:latin typeface="Times New Roman"/>
              </a:rPr>
              <a:t>Have-A-Lot Libr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457200"/>
            <a:ext cx="335268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for ten long years, everyone was happ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, the Internet began to offer new and cool interfaces everyone lov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were faceted navigation schemes that helped users search more effectively, good relevance rankings, and the ability to cluster search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6346" t="0" r="6346" b="0"/>
          <a:stretch/>
        </p:blipFill>
        <p:spPr>
          <a:xfrm>
            <a:off x="609480" y="152280"/>
            <a:ext cx="4191120" cy="6400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57400" y="38862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0ca7"/>
                </a:solidFill>
                <a:latin typeface="Times New Roman"/>
              </a:rPr>
              <a:t>Have-A-Lot Libr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38098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0ca7"/>
                </a:solidFill>
                <a:latin typeface="Times New Roman"/>
              </a:rPr>
              <a:t>Have-A-Lot Libr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133640"/>
            <a:ext cx="31240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ch savvy librarian princess then realized, their once dynamic cataloging system was now lagging,                     not lead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ly, the unthinkable had happened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7692" r="0" b="0"/>
          <a:stretch/>
        </p:blipFill>
        <p:spPr>
          <a:xfrm>
            <a:off x="838080" y="152280"/>
            <a:ext cx="3756240" cy="6477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029200" y="533520"/>
            <a:ext cx="33526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that I didn’t warn you five years ago,” said her friend R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system needs to match the workflow of the library. We now manage digital, print and all kinds of media packages. We need a new system designed around the jobs we do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945040" cy="3860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14400" y="4724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n years ago, this was what most of our library was: print. We need a system that will make cataloging easier for all our needs and our us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6:54:44Z</dcterms:created>
  <dc:creator>Barbara Kennedy</dc:creator>
  <dc:description/>
  <dc:language>en-US</dc:language>
  <cp:lastModifiedBy>Barbara Kennedy</cp:lastModifiedBy>
  <dcterms:modified xsi:type="dcterms:W3CDTF">2009-05-02T20:34:57Z</dcterms:modified>
  <cp:revision>20</cp:revision>
  <dc:subject/>
  <dc:title>PowerPoint Presentation</dc:title>
</cp:coreProperties>
</file>